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media/image22.wmf" ContentType="image/x-wmf"/>
  <Override PartName="/ppt/media/highchime.wav" ContentType="audio/x-wav"/>
  <Override PartName="/ppt/media/image21.wmf" ContentType="image/x-wmf"/>
  <Override PartName="/ppt/media/image19.wmf" ContentType="image/x-wmf"/>
  <Override PartName="/ppt/media/image15.wmf" ContentType="image/x-wmf"/>
  <Override PartName="/ppt/media/image13.wmf" ContentType="image/x-wmf"/>
  <Override PartName="/ppt/media/image12.wmf" ContentType="image/x-wmf"/>
  <Override PartName="/ppt/media/image11.wmf" ContentType="image/x-wmf"/>
  <Override PartName="/ppt/media/image10.wmf" ContentType="image/x-wmf"/>
  <Override PartName="/ppt/media/image9.wmf" ContentType="image/x-wmf"/>
  <Override PartName="/ppt/media/image39.wmf" ContentType="image/x-wmf"/>
  <Override PartName="/ppt/media/image2.wmf" ContentType="image/x-wmf"/>
  <Override PartName="/ppt/media/image32.wmf" ContentType="image/x-wmf"/>
  <Override PartName="/ppt/media/zipdn102.wav" ContentType="audio/x-wav"/>
  <Override PartName="/ppt/media/image27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1.wmf" ContentType="image/x-wmf"/>
  <Override PartName="/ppt/media/image31.wmf" ContentType="image/x-wmf"/>
  <Override PartName="/ppt/media/CAMERA.WAV" ContentType="audio/x-wav"/>
  <Override PartName="/ppt/media/image45.wmf" ContentType="image/x-wmf"/>
  <Override PartName="/ppt/media/image14.wmf" ContentType="image/x-wmf"/>
  <Override PartName="/ppt/media/LASER.WAV" ContentType="audio/x-wav"/>
  <Override PartName="/ppt/media/image23.wmf" ContentType="image/x-wmf"/>
  <Override PartName="/ppt/media/image24.wmf" ContentType="image/x-wmf"/>
  <Override PartName="/ppt/media/hzipup01.wav" ContentType="audio/x-wav"/>
  <Override PartName="/ppt/media/image30.wmf" ContentType="image/x-wmf"/>
  <Override PartName="/ppt/media/image25.wmf" ContentType="image/x-wmf"/>
  <Override PartName="/ppt/media/image26.wmf" ContentType="image/x-wmf"/>
  <Override PartName="/ppt/media/image17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GUNSHOT.WAV" ContentType="audio/x-wav"/>
  <Override PartName="/ppt/media/image43.wmf" ContentType="image/x-wmf"/>
  <Override PartName="/ppt/media/image44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bserie06.wav" ContentType="audio/x-wav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20A-C2FD-42CD-8FF6-649553BB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ECE-74E8-4E76-9A38-ADFFA58B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C5C-43B0-48FF-94C0-CCF48D46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D55-0C20-4A90-AD5B-76B62FE3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0C3-B809-4594-987A-14A5D09D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8F5-8530-4274-A691-D936C4A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1B7-07C2-44C9-B24F-8F33B544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114-E049-4F27-99C3-40E0D78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CF5-1843-4774-B0B1-B3F6D39B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2E0-F6C3-4AE1-B5F3-2E0C1CBF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8D5-DDCD-4A7D-9CCE-D343238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CF5-1D94-4DE4-ABB5-964994E5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9EBC-51B4-4A8C-A5B7-92F2B09C4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audio" Target="../media/WHOOSH.WAV"/><Relationship Id="rId18" Type="http://schemas.openxmlformats.org/officeDocument/2006/relationships/audio" Target="../media/CHIMES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AMERA.WAV"/><Relationship Id="rId22" Type="http://schemas.openxmlformats.org/officeDocument/2006/relationships/audio" Target="../media/CHIMES.WAV"/><Relationship Id="rId23" Type="http://schemas.openxmlformats.org/officeDocument/2006/relationships/audio" Target="../media/CAMERA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CAMERA.WAV"/><Relationship Id="rId27" Type="http://schemas.openxmlformats.org/officeDocument/2006/relationships/audio" Target="../media/bserie06.wav"/><Relationship Id="rId28" Type="http://schemas.openxmlformats.org/officeDocument/2006/relationships/audio" Target="../media/bserie06.wav"/><Relationship Id="rId29" Type="http://schemas.openxmlformats.org/officeDocument/2006/relationships/audio" Target="../media/CAMERA.WAV"/><Relationship Id="rId30" Type="http://schemas.openxmlformats.org/officeDocument/2006/relationships/audio" Target="../media/bserie06.wav"/><Relationship Id="rId31" Type="http://schemas.openxmlformats.org/officeDocument/2006/relationships/audio" Target="../media/bserie06.wav"/><Relationship Id="rId32" Type="http://schemas.openxmlformats.org/officeDocument/2006/relationships/audio" Target="../media/CAMERA.WAV"/><Relationship Id="rId33" Type="http://schemas.openxmlformats.org/officeDocument/2006/relationships/audio" Target="../media/bserie06.wav"/><Relationship Id="rId34" Type="http://schemas.openxmlformats.org/officeDocument/2006/relationships/audio" Target="../media/bserie06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audio" Target="../media/CAMERA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MERA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zipdn102.wav"/><Relationship Id="rId23" Type="http://schemas.openxmlformats.org/officeDocument/2006/relationships/audio" Target="../media/bserie06.wav"/><Relationship Id="rId24" Type="http://schemas.openxmlformats.org/officeDocument/2006/relationships/audio" Target="../media/CAMERA.WAV"/><Relationship Id="rId25" Type="http://schemas.openxmlformats.org/officeDocument/2006/relationships/audio" Target="../media/zipdn102.wav"/><Relationship Id="rId26" Type="http://schemas.openxmlformats.org/officeDocument/2006/relationships/audio" Target="../media/bserie06.wav"/><Relationship Id="rId27" Type="http://schemas.openxmlformats.org/officeDocument/2006/relationships/audio" Target="../media/CAMERA.WAV"/><Relationship Id="rId28" Type="http://schemas.openxmlformats.org/officeDocument/2006/relationships/audio" Target="../media/zipdn102.wav"/><Relationship Id="rId29" Type="http://schemas.openxmlformats.org/officeDocument/2006/relationships/audio" Target="../media/bserie06.wav"/><Relationship Id="rId30" Type="http://schemas.openxmlformats.org/officeDocument/2006/relationships/audio" Target="../media/CAMERA.WAV"/><Relationship Id="rId31" Type="http://schemas.openxmlformats.org/officeDocument/2006/relationships/audio" Target="../media/zipdn102.wav"/><Relationship Id="rId32" Type="http://schemas.openxmlformats.org/officeDocument/2006/relationships/audio" Target="../media/bserie06.wav"/><Relationship Id="rId33" Type="http://schemas.openxmlformats.org/officeDocument/2006/relationships/audio" Target="../media/bserie06.wav"/><Relationship Id="rId34" Type="http://schemas.openxmlformats.org/officeDocument/2006/relationships/audio" Target="../media/bserie06.wav"/><Relationship Id="rId35" Type="http://schemas.openxmlformats.org/officeDocument/2006/relationships/audio" Target="../media/highchime.wav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audio" Target="../media/CAMERA.WAV"/><Relationship Id="rId10" Type="http://schemas.openxmlformats.org/officeDocument/2006/relationships/audio" Target="../media/bserie06.wav"/><Relationship Id="rId11" Type="http://schemas.openxmlformats.org/officeDocument/2006/relationships/audio" Target="../media/CAMERA.WAV"/><Relationship Id="rId12" Type="http://schemas.openxmlformats.org/officeDocument/2006/relationships/audio" Target="../media/zipdn10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8.wmf"/><Relationship Id="rId37" Type="http://schemas.openxmlformats.org/officeDocument/2006/relationships/audio" Target="../media/CHIMES.WAV"/><Relationship Id="rId38" Type="http://schemas.openxmlformats.org/officeDocument/2006/relationships/audio" Target="../media/CAMERA.WAV"/><Relationship Id="rId39" Type="http://schemas.openxmlformats.org/officeDocument/2006/relationships/audio" Target="../media/bserie06.wav"/><Relationship Id="rId40" Type="http://schemas.openxmlformats.org/officeDocument/2006/relationships/audio" Target="../media/bserie06.wav"/><Relationship Id="rId41" Type="http://schemas.openxmlformats.org/officeDocument/2006/relationships/audio" Target="../media/bserie06.wav"/><Relationship Id="rId42" Type="http://schemas.openxmlformats.org/officeDocument/2006/relationships/audio" Target="../media/bserie06.wav"/><Relationship Id="rId43" Type="http://schemas.openxmlformats.org/officeDocument/2006/relationships/audio" Target="../media/hzipup01.wav"/><Relationship Id="rId44" Type="http://schemas.openxmlformats.org/officeDocument/2006/relationships/audio" Target="../media/hzipup01.wav"/><Relationship Id="rId45" Type="http://schemas.openxmlformats.org/officeDocument/2006/relationships/audio" Target="../media/CAMERA.WAV"/><Relationship Id="rId46" Type="http://schemas.openxmlformats.org/officeDocument/2006/relationships/audio" Target="../media/bserie06.wav"/><Relationship Id="rId47" Type="http://schemas.openxmlformats.org/officeDocument/2006/relationships/audio" Target="../media/bserie06.wav"/><Relationship Id="rId48" Type="http://schemas.openxmlformats.org/officeDocument/2006/relationships/audio" Target="../media/bserie06.wav"/><Relationship Id="rId49" Type="http://schemas.openxmlformats.org/officeDocument/2006/relationships/audio" Target="../media/bserie06.wav"/><Relationship Id="rId50" Type="http://schemas.openxmlformats.org/officeDocument/2006/relationships/audio" Target="../media/hzipup01.wav"/><Relationship Id="rId51" Type="http://schemas.openxmlformats.org/officeDocument/2006/relationships/audio" Target="../media/hzipup01.wav"/><Relationship Id="rId52" Type="http://schemas.openxmlformats.org/officeDocument/2006/relationships/audio" Target="../media/CAMERA.WAV"/><Relationship Id="rId53" Type="http://schemas.openxmlformats.org/officeDocument/2006/relationships/audio" Target="../media/bserie06.wav"/><Relationship Id="rId54" Type="http://schemas.openxmlformats.org/officeDocument/2006/relationships/audio" Target="../media/bserie06.wav"/><Relationship Id="rId55" Type="http://schemas.openxmlformats.org/officeDocument/2006/relationships/audio" Target="../media/bserie06.wav"/><Relationship Id="rId56" Type="http://schemas.openxmlformats.org/officeDocument/2006/relationships/audio" Target="../media/CAMERA.WAV"/><Relationship Id="rId57" Type="http://schemas.openxmlformats.org/officeDocument/2006/relationships/audio" Target="../media/bserie06.wav"/><Relationship Id="rId58" Type="http://schemas.openxmlformats.org/officeDocument/2006/relationships/audio" Target="../media/bserie06.wav"/><Relationship Id="rId59" Type="http://schemas.openxmlformats.org/officeDocument/2006/relationships/audio" Target="../media/bserie06.wav"/><Relationship Id="rId60" Type="http://schemas.openxmlformats.org/officeDocument/2006/relationships/audio" Target="../media/hzipup01.wav"/><Relationship Id="rId61" Type="http://schemas.openxmlformats.org/officeDocument/2006/relationships/audio" Target="../media/hzipup01.wav"/><Relationship Id="rId6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audio" Target="../media/CAMERA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audio" Target="../media/hzipup01.wav"/><Relationship Id="rId26" Type="http://schemas.openxmlformats.org/officeDocument/2006/relationships/audio" Target="../media/CAMERA.WAV"/><Relationship Id="rId27" Type="http://schemas.openxmlformats.org/officeDocument/2006/relationships/audio" Target="../media/bserie06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ributive Prope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distributive property to rewrite the expression without 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61800" y="1460520"/>
                <a:ext cx="3721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39840" y="3227400"/>
                <a:ext cx="29001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8" name=""/>
          <p:cNvGraphicFramePr/>
          <p:nvPr/>
        </p:nvGraphicFramePr>
        <p:xfrm>
          <a:off x="866880" y="3886200"/>
          <a:ext cx="113976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3886200"/>
                    <a:ext cx="113976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02240" y="3166920"/>
                <a:ext cx="37306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5743440" y="3886200"/>
          <a:ext cx="10810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43440" y="3886200"/>
                    <a:ext cx="1081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4000" y="4768920"/>
                <a:ext cx="3692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" name=""/>
          <p:cNvGraphicFramePr/>
          <p:nvPr/>
        </p:nvGraphicFramePr>
        <p:xfrm>
          <a:off x="885960" y="5481720"/>
          <a:ext cx="150012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5960" y="5481720"/>
                    <a:ext cx="1500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89360" y="4765680"/>
                <a:ext cx="2987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7" name=""/>
          <p:cNvGraphicFramePr/>
          <p:nvPr/>
        </p:nvGraphicFramePr>
        <p:xfrm>
          <a:off x="5695920" y="5562720"/>
          <a:ext cx="108108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5920" y="5562720"/>
                    <a:ext cx="10810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192560" y="1523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23000" y="1465200"/>
                <a:ext cx="3808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1933560" y="3809880"/>
          <a:ext cx="108108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33560" y="3809880"/>
                    <a:ext cx="1081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734160" y="3886200"/>
          <a:ext cx="118440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4160" y="3886200"/>
                    <a:ext cx="1184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238480" y="5486400"/>
          <a:ext cx="11379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38480" y="5486400"/>
                    <a:ext cx="113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629400" y="5562720"/>
          <a:ext cx="11397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29400" y="5562720"/>
                    <a:ext cx="113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70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ributive Prope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distributive property to rewrite the expression without 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92040" y="3228840"/>
                <a:ext cx="30304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5" name=""/>
          <p:cNvGraphicFramePr/>
          <p:nvPr/>
        </p:nvGraphicFramePr>
        <p:xfrm>
          <a:off x="1143000" y="3962520"/>
          <a:ext cx="113976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1139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86400" y="3166920"/>
                <a:ext cx="4070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8" name=""/>
          <p:cNvGraphicFramePr/>
          <p:nvPr/>
        </p:nvGraphicFramePr>
        <p:xfrm>
          <a:off x="5969160" y="4033800"/>
          <a:ext cx="8222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9160" y="4033800"/>
                    <a:ext cx="8222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192560" y="1523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57560" y="4168800"/>
          <a:ext cx="87300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7560" y="4168800"/>
                    <a:ext cx="8730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781680" y="4038480"/>
          <a:ext cx="11383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4038480"/>
                    <a:ext cx="113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1800" y="1460520"/>
                <a:ext cx="3721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23000" y="1465200"/>
                <a:ext cx="3808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80880" y="2209680"/>
                <a:ext cx="3510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7720" y="3003480"/>
                <a:ext cx="3306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4997520" y="2279520"/>
          <a:ext cx="2884320" cy="7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97520" y="2279520"/>
                    <a:ext cx="2884320" cy="7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521320" y="2924280"/>
                <a:ext cx="25686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1828800" y="3733920"/>
          <a:ext cx="1077840" cy="61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733920"/>
                    <a:ext cx="10778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478560" y="3657600"/>
          <a:ext cx="82872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8560" y="3657600"/>
                    <a:ext cx="8287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1523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ify the expression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9960" y="4413240"/>
          <a:ext cx="293220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960" y="4413240"/>
                    <a:ext cx="29322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66680" y="5105520"/>
          <a:ext cx="236376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6680" y="5105520"/>
                    <a:ext cx="2363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447920" y="5791320"/>
          <a:ext cx="1554120" cy="76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791320"/>
                    <a:ext cx="15541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759200" y="4483080"/>
          <a:ext cx="3357720" cy="56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9200" y="4483080"/>
                    <a:ext cx="33577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562720" y="5181480"/>
          <a:ext cx="2568600" cy="621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5181480"/>
                    <a:ext cx="2568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172200" y="5867280"/>
          <a:ext cx="1398600" cy="61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5867280"/>
                    <a:ext cx="13986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643800" y="5234040"/>
                <a:ext cx="276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00840" y="5934240"/>
                <a:ext cx="2761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ighchim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9880" y="2279520"/>
                <a:ext cx="31305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752480" y="3048120"/>
          <a:ext cx="150336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15033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2286000"/>
          <a:ext cx="36892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0"/>
                    <a:ext cx="3689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410080" y="2971800"/>
          <a:ext cx="287820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971800"/>
                    <a:ext cx="2878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943600" y="3657600"/>
          <a:ext cx="1916280" cy="6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3657600"/>
                    <a:ext cx="1916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1523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ify the expression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00760" y="3076560"/>
                <a:ext cx="2764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2209680"/>
                <a:ext cx="47419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1039680" y="2946240"/>
          <a:ext cx="129564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2946240"/>
                    <a:ext cx="12956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038560" y="2212920"/>
                <a:ext cx="3770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e>
                    </m:d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6172200" y="3048120"/>
          <a:ext cx="71928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048120"/>
                    <a:ext cx="7192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52480" y="3657600"/>
          <a:ext cx="1231920" cy="6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3657600"/>
                    <a:ext cx="12319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529320" y="3733920"/>
          <a:ext cx="72540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9320" y="3733920"/>
                    <a:ext cx="7254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distributive Property. Then simply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0" y="4411800"/>
                <a:ext cx="45021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1143000" y="5105520"/>
          <a:ext cx="128412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105520"/>
                    <a:ext cx="1284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13280" y="4343400"/>
                <a:ext cx="4230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3" name=""/>
          <p:cNvGraphicFramePr/>
          <p:nvPr/>
        </p:nvGraphicFramePr>
        <p:xfrm>
          <a:off x="5867280" y="5029200"/>
          <a:ext cx="71928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5029200"/>
                    <a:ext cx="7192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300720" y="5791320"/>
          <a:ext cx="1139760" cy="76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0720" y="5791320"/>
                    <a:ext cx="11397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309760" y="2946240"/>
          <a:ext cx="1192320" cy="619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09760" y="2946240"/>
                    <a:ext cx="11923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505320" y="2971800"/>
          <a:ext cx="985680" cy="56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2971800"/>
                    <a:ext cx="9856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895480" y="3657600"/>
          <a:ext cx="118116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95480" y="3657600"/>
                    <a:ext cx="11811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781680" y="3048120"/>
          <a:ext cx="1128960" cy="776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81680" y="3048120"/>
                    <a:ext cx="11289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772400" y="3124080"/>
          <a:ext cx="871560" cy="673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72400" y="3124080"/>
                    <a:ext cx="871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162920" y="3733920"/>
          <a:ext cx="1191960" cy="768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62920" y="3733920"/>
                    <a:ext cx="11919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209680" y="5257800"/>
          <a:ext cx="138600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09680" y="5257800"/>
                    <a:ext cx="13860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429000" y="5257800"/>
          <a:ext cx="117936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5257800"/>
                    <a:ext cx="1179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400800" y="5029200"/>
          <a:ext cx="1387440" cy="776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00800" y="5029200"/>
                    <a:ext cx="1387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653240" y="5181480"/>
          <a:ext cx="1490760" cy="6210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653240" y="5181480"/>
                    <a:ext cx="149076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7238880" y="5943600"/>
          <a:ext cx="1503360" cy="615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238880" y="5943600"/>
                    <a:ext cx="1503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57760" y="2962440"/>
                <a:ext cx="2761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043840" y="3062160"/>
                <a:ext cx="276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implify –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get rid of all parentheses and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8800" y="2209680"/>
                <a:ext cx="42674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4" name=""/>
          <p:cNvGraphicFramePr/>
          <p:nvPr/>
        </p:nvGraphicFramePr>
        <p:xfrm>
          <a:off x="1523880" y="2971800"/>
          <a:ext cx="11908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971800"/>
                    <a:ext cx="11908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69720" y="4346640"/>
                <a:ext cx="50133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7" name=""/>
          <p:cNvGraphicFramePr/>
          <p:nvPr/>
        </p:nvGraphicFramePr>
        <p:xfrm>
          <a:off x="1447920" y="4952880"/>
          <a:ext cx="133488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952880"/>
                    <a:ext cx="133488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2130480" y="5715000"/>
          <a:ext cx="129528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0480" y="5715000"/>
                    <a:ext cx="12952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he distributive Property. Then simply by combining lik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666880" y="2971800"/>
          <a:ext cx="83052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971800"/>
                    <a:ext cx="8305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505320" y="2971800"/>
          <a:ext cx="119376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2971800"/>
                    <a:ext cx="1193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971800" y="3657600"/>
          <a:ext cx="461880" cy="61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1800" y="3657600"/>
                    <a:ext cx="4618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590920" y="5029200"/>
          <a:ext cx="1230120" cy="67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5029200"/>
                    <a:ext cx="12301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657600" y="4952880"/>
          <a:ext cx="1434960" cy="776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952880"/>
                    <a:ext cx="143496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00400" y="5791320"/>
          <a:ext cx="1244520" cy="66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791320"/>
                    <a:ext cx="12445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752480" y="3048120"/>
            <a:ext cx="91440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33920" y="3048120"/>
            <a:ext cx="91440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26T13:30:16Z</dcterms:modified>
  <cp:revision>111</cp:revision>
  <dc:subject/>
  <dc:title>No Slide Title</dc:title>
</cp:coreProperties>
</file>